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5.wmf" ContentType="image/x-wmf"/>
  <Override PartName="/ppt/media/image16.wmf" ContentType="image/x-wmf"/>
  <Override PartName="/ppt/media/image28.png" ContentType="image/png"/>
  <Override PartName="/ppt/media/image7.jpeg" ContentType="image/jpeg"/>
  <Override PartName="/ppt/media/image20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12.png" ContentType="image/png"/>
  <Override PartName="/ppt/media/image23.jpeg" ContentType="image/jpeg"/>
  <Override PartName="/ppt/media/image25.wmf" ContentType="image/x-wmf"/>
  <Override PartName="/ppt/media/image24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52D-77DA-45D8-9ACC-BB879953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2BA-570C-41F9-817B-82C70C01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CC2-8DD2-4902-BF86-4B1D7181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9B6-11A0-4B09-8585-25961FE4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25D-1758-41DD-91FF-61114E20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43F-CC52-4051-BDBB-7D1BA3D8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2C5-DFF1-4FF4-B9E1-88EB219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B37-1BE3-4B94-A347-3A65F746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45D-33F4-41CD-996A-828D8D51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BB6-0E52-413B-B829-89EE1A8F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9D6-0697-4B12-B9BA-68112B0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C24-AC00-41D7-9772-997F051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E243-ABFD-4C44-9630-0373C240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17960" y="533520"/>
            <a:ext cx="49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81080" y="2514600"/>
            <a:ext cx="57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ИЗИОЛОГИЈА БУБРЕГ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97720" y="571500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Проф. др Сузана Пант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444040" y="350532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7. наставна јединица (седма недељ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51280" y="914040"/>
            <a:ext cx="439272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Фактори који утичу на пропуст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љив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ост гломерулске мембра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честице (дијаметар пора гломерулске мембране је 8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наелектрисањ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честице (базална мембрана садржи негативно наелектрисане протеогликане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пителн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ћелиј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 су такођ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наелектрисане 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Албумини имају дијаметар од 6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али не пролазе гломерулску мембрану због тога што су негативно наелектриса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Састав гломерулског филтрата одговара саставу плазме без протеина (мање од 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0.3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/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</a:t>
            </a:r>
            <a:r>
              <a:rPr b="0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6083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4000" y="6922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Г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ломерулс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 филтрациј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ва фаза стварања мокра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ћ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04920" y="236232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ормалним физиолошким условима брзин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ин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ломерулске филтрације код одрасле особе износ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5 ml/m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ли oк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0 литара на да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5219640" cy="61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Силе које утичу на филтрацију течности у гломерулима бубрег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хидростатски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притисак у гломерул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ским капиларима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(повећава филтрациј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– средња вредност гломерулског притиска износи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6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хидростатски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притисак у Bowman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овој капсули</a:t>
            </a:r>
            <a:r>
              <a:rPr b="0" lang="sr-Latn-CS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(смањује филтрациј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– ок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8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олоидно-осмотски притисак плазме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(смањује филтрациј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– средња вредност ок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32 mmHg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(28 mmHg на почетку и 36 mmHg на крају гломерулских капилара због филтрирања 20% плазм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олоидно-осмотски притисак у Bowman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овој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капсули износи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mHg (нема филтрације протеина у гломерулима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148360" y="620640"/>
            <a:ext cx="3995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Силе које утичу на филтрацију течности у гломерулима бубрег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Филтрациони притиса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(нето-притисак који узрокује филтрацију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Филтрациони коефицијент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12.5 ml/мин/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Величина гломерулске филтрациј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25 ml/мин (18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днев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Фракција филтра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величина гломерулске филтрације : проток плазме кроз бубреге 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2 (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0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148360" y="620640"/>
            <a:ext cx="3995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Квантитативни односи тубулских процеса за поједине супста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52280" y="228600"/>
            <a:ext cx="8839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Тубулска реапсорп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илтрација=брзина гломерул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к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 филтрације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лазм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апсорпција – селективан процес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8680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685800" y="22096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у нормалним, физиолошким условима износ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ко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178.5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/д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А. Трансцелуларни транспор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ктивни транспорти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а) примарни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Nа,К-АТP-аза, секреција H јона (завршни дистални тубул))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) секундарн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транспорт глукозе или аминокиселина са натријумом, контратранспорт H/Nа јона (проксимални тубули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асивни транспор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219320" y="228600"/>
            <a:ext cx="6778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Путеви транспорта воде и електролита из лумена бубрежних тубула у интерстицијум и перитубуларне капиларе (реапсорпција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3962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Б. Парацелуларни транспорт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ранспорт кроз просторе између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Ц. Ултрафилтрација (масовни ток) –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кон апсорпције кроз тубулске епителне ћелије у интерстицијумску течност вода и растворене супстанце се остатак пута транспортују кроз зидове перитубулских капилара у крв ултрафилтрацијом која је под контролом хидростатских и колоидно осмотских сила које делују на мембрану капил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5029200" cy="405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Arial"/>
              </a:rPr>
              <a:t>Тубулски транспортни максимум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максимална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рзи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кој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м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се нек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супстанц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у тубулима може реапсорбовати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(зависи од сатурације специфичних транспортних систе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2438280"/>
            <a:ext cx="54864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Бубрежни п</a:t>
            </a: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раг" за супстанце које имају тубул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ски</a:t>
            </a: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 транспортни максимум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ља ниво у плазми на коме с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пстан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ви пут појављује у урину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концентрација у филтрату ће бити изна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брежног праг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4419720"/>
            <a:ext cx="51055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лукоз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пример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Транспортни максимум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37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7.77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mo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(Т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раг за глукозу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                 - 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200 mg/100 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.22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mo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убулско оптерећење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glu: 12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94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mo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80988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2517480" y="30492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РАНСПОРТНИ 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114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Arial"/>
              </a:rPr>
              <a:t>Функције проксималног туб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есорпција 2/3 укупне количине воде и е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есорпција Na, Cl, бикарбоната, К,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тпуна ресорпција глукозе и аминокиселина (котран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екреција H јона (секундарни активни транспорт – контратранспорт са 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екреција органских киселина и 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асивна апсорпција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419720" y="838080"/>
            <a:ext cx="4446360" cy="449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Функције танког сегмента (десцендентног и асцендентног) Хенле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о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ве петље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ма активног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есцендентни део танког сегмента Хенлеове петље је високопермеабилан за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сцендентни део танког сегмента Хенлеове је непермеабилан за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ФУНКЦИОНАЛНО-АНАТОМСКЕ ОСНОВЕ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РЕНАЛНОГ СИСТЕМА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634160" cy="434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4724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Функције дебелог сегмента Хенле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о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ве петље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екундарни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ктивни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транспор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К</a:t>
            </a:r>
            <a:r>
              <a:rPr b="0" lang="sr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sr-C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што је посредовано 1-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a, 2-Cl, 1 K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транспор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 дебелом асцендентном краку постоји и значајна парацелуларна реапсорпција катјона: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Ca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ебели асцендентни крак је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пропус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за воду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убулска течност постаје веома разређена у свом току према дисталном тубулу.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ачај за механизме који контролишу концент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в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ур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Дистални тубул има два функционална д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рани дистални тубул (дилуциони сегме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завршни дистални тубул и кортикални сабирни кана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Функције дилуционог сег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сте функције као дебели сегмент Хенл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е петље (активни транспор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, К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непропус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за в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49568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4419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Функције завршног дисталног туб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тпуно непропуст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за у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активна ресорпциј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а и секреција К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у главним ћелијам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завршног дисталног тубул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– значај у контроли концентрације ових јон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алдостерон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стимулиш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a-K-ATP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зне пумп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екрециј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јона (примарни транспорт – интеркалатне ћелије), концентрисање до 1000x – значај у контроли ацидобазне равнот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тпуно непропуст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за воду без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– у присуств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постаје пропу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49568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3123720"/>
            <a:ext cx="2438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Транспорт воде и електролита из лумена бубрежних тубула у интерстицијум и перитубулске капиларе (силе које детерминишу обим враћања у кр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04920" y="304920"/>
            <a:ext cx="853416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егулација тубулске реапсорпције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у нормалним, физиолошким условима износи 178.5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/д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Гломерулотубулска равнотежа (способност тубула да повећају брзину реапсорпције у одговору на повећање тубулског оптереће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Физичке силе перитубулских капилара и бубрежне интерстицијумске т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6094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Бубрежни клиренс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 - clear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истити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је: запремина плазме која се потпуно очисти од неке супстанце бубрезима у јединици врем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ml/min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лиренс плазме за неку супстанцу се израчунава по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2819520" y="2895480"/>
          <a:ext cx="304776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95480"/>
                    <a:ext cx="30477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5"/>
          <p:cNvSpPr/>
          <p:nvPr/>
        </p:nvSpPr>
        <p:spPr>
          <a:xfrm>
            <a:off x="2438280" y="4876920"/>
            <a:ext cx="5562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(ml/min)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клире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(mg/ml)- концентрација супстанце у мокраћ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V (ml/min)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- излучена мокраћа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(mg/ml)- концентрација супстанце у плазм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супстанца која се само филтрира (нема реапсорпције ни секреције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ули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креатинин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супстанца која се филтрира и (делимично) реапсорбуј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електролити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супстанца која се филтрира и (потпуно) реапсорбуј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лукоз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мино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супстанца која се филтрира и (потпуно) секретуј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: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парааминохипурна киселин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H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)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ра протока плазме кроз бубреге (око 625 мл/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191120" cy="5486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304920" y="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линички важни килрен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sr-CS" sz="1800" spc="-1" strike="noStrike">
                <a:solidFill>
                  <a:srgbClr val="ffff00"/>
                </a:solidFill>
                <a:latin typeface="Times New Roman"/>
              </a:rPr>
              <a:t>Слика бубрежне обраде четири хипотетичке супстанце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6066000"/>
            <a:ext cx="87631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За клиничко одређивање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велич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 (брзине)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ломерулске филтрације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најчешће се употребљава </a:t>
            </a:r>
            <a:r>
              <a:rPr b="1" lang="sr-CS" sz="1400" spc="-1" strike="noStrike">
                <a:solidFill>
                  <a:srgbClr val="ffffff"/>
                </a:solidFill>
                <a:latin typeface="Times New Roman"/>
              </a:rPr>
              <a:t>креатинин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иако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није савршен маркер за величину гломерулске филтрације зато што се у малој количини секретује у тубулим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4067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Бубрежни механизам за излучивање разређене мокраћ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реапсорпцију електролита која почиње у дебелом сегменту асцендентног крака Хенлејеве петље не прати реапсорпција воде (филтрат се дилуи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како у крви нема 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DH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и завршни дистални тубул и кортикални сабирни каналићи остају непропустни за воду (филтрат се и даље дилуира због реапсорпције електроли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излучује се разређена мокраћ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969080" cy="4392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681840" y="838080"/>
            <a:ext cx="77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ОСНОВНЕ КОМПОНЕНТЕ ПРОСТИВСТРУЈНОГ МЕХ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7920" y="20574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противструјни умноживач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противструјни измењив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04920" y="1066680"/>
            <a:ext cx="85341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Бубрежни механизми за излучивање концентрисане мокраће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 - противструјни механизам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одвија се у медули бубрега уз учешће јукстамедуларних нефрона и vasa recta) обухв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914400" y="2890800"/>
            <a:ext cx="7515360" cy="3814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05520" y="533520"/>
            <a:ext cx="77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ОСНОВНЕ КОМПОНЕНТЕ ПРОСТИВСТРУЈНОГ МЕХ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Стварање хиперосмоларности у медуларном интерстицију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активни транспорт јона из тубула у интерстицијум у дебелом сегменту усходног крак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Хенлеове петље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и дилуционом сегменту дисталног тубула (непропустни за воду) - </a:t>
            </a: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противструјни умножи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активни транспорт јона из тубула у интерстицијум у сабирним це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пасивна дифузија урее из сабирних цеви у интерстициј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33520" y="228600"/>
            <a:ext cx="8076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ПРОТИВСТРУЈНИ МЕХАНИЗА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imes New Roman"/>
              </a:rPr>
              <a:t>ПРОТИВСТРУЈНИ УМНОЖИ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914400" y="2890800"/>
            <a:ext cx="7515360" cy="381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Повећање пропустљивости за воду епителних ћелија завршног дисталног тубула, кортикалних и медуларних сабирних каналића под дејством A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3. Задржавање вишка електролита у медуларном интерстициј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04920" y="2895480"/>
            <a:ext cx="38862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противструјни измењивачки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механизам у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vasa recta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обавезна запремина мокр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е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0.5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ли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slika 37-16"/>
          <p:cNvPicPr/>
          <p:nvPr/>
        </p:nvPicPr>
        <p:blipFill>
          <a:blip r:embed="rId1"/>
          <a:stretch/>
        </p:blipFill>
        <p:spPr>
          <a:xfrm>
            <a:off x="4343400" y="380880"/>
            <a:ext cx="3816360" cy="487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7224840" y="4038480"/>
            <a:ext cx="19191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3690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Функције бубре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лучивање највеће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ела крајњих продуката метаб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ација запремине и састава телесних течности (осмолалности телесних тецности и концентрације електрол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ација ацидо-базне равноте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ација артеријског прит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ција хормона, метаболизам и екскре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иконеоге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995640" y="765000"/>
            <a:ext cx="4937400" cy="512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788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Механизам повећања концентрације урее у мокраћи и медуларном интерстицијуму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-уреа доприноси (40%) хиперосмоларности бубрежног медуларног интерстицијума и концентрисању мокраће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дебео крак Хенлеове петље, дистални тубул и кортикални сабирни тубул су релативно непропустљиви за уреу и овде се реапсорбује мало ур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медуларни део сабирних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је умерено пропустан за уре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пропустност кортикалних сабирних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за воду у присуству ADH се повећава више него за уреу (за уреу су скоро непропустљиви) па се концентрација урее у сабирним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им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додатно повећ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у присуству ADH пропустност медуларних сабирних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за уреу се повећава и уреа дифундује (услед концентрационог градијента) у интерстицијум меду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умерени део урее, који се креће у медуларни интерстицијум, на крају дифундује у танак крак Хенлеове петље, па пролази навише кроз асцедентни крак и кроз систем тубула опет назад у медуларни сабирни канал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4952880" y="404640"/>
            <a:ext cx="4091040" cy="444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012000" y="4941720"/>
            <a:ext cx="3024000" cy="14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4952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Систем осмонатријумских рецептора и ADH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(механиза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већање осмоларности екстрацелуларне течности подражава осморецепторе смештене у AV3V подруч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сморецептори подражавају супраоптичка једра хипоталамуса (вероватно изазивају и осећај жеђ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сморецептори стварају ADH који се ослобађа у циркулацију у неурохипофи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04920" y="45720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Механизми за контролу осмоларности и концентрације натријума у екстрацелуларној теч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711600" cy="524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4924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ADH долази до бубрега и везује се за базолатерални део мембране епителних ћелија сабирних канал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активира се аденил-цик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повећава се концентрација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AMP дифундује до луминалне мембране и узрокује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везикула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(имају аквапори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везикуле омогућавају транспорт воде кроз епителн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вода се реапсорбује у екстрацелуларну течност и укупна осмоларност се враћа на жељену вред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410080" y="333360"/>
            <a:ext cx="3435480" cy="65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актори који утичу на секрецију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561080" cy="450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актори који утичу н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контролу жеђи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164440" cy="373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28600"/>
            <a:ext cx="4087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ФУНКЦИОНАЛНА АНАТОМИЈА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нефрон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Нефрон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– основна функционалана јединица бубрега (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стој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 000 000 нефрона у једном бубрег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он 40. год., број функционалних нефрона се смањује за око 10% сваких 10 го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Делови нефр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Гломеру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роз који се филтрира велика количина течности из крви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Тубулски систе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у којем се филтрирана течност претвара у мокраћ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135320" y="762120"/>
            <a:ext cx="5008680" cy="554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44640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Гломерул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 састоји од мреже разгранатих, анастомозирајућих капилара који у поређењу са другим капиларним мрежама има висок хидростатски притисак (око 60 mmHg) и смештен је у B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man-овој капс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ферентна артериола (крв улази у гломеру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еферентна артериола (крв излази из гломеру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800600" y="549360"/>
            <a:ext cx="4343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424044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Тубулски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проксимални туб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Хенл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а петљ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. десцендентни (танки)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б. асцендентни (танки)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. асцендентни (дебели) сегмент (на зав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етку одмах до проксималног дела дисталног тубула се налази macula den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истални туб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бирни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уб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ртикални сабирни кана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медуларни сабирни кана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800600" y="549360"/>
            <a:ext cx="4343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3887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Врсте неф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кортикални нефрони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80%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мају кратке Хенлеове петље које продиру само делимично у медул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ј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стварањ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јукстамедуларни нефрон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(20%), имају дуге Хенлеове петље које се протежу дубоко у медулу – функција: стварање и концентрисање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рактерист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дугачки танки сегмент Хенлеове пет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vasa recta (специјализовани перитубулски капилари који се спуштају дубо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у медулу пратећи Хенлеову петљ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4706640" cy="54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Екскрециј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излучив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мокраћни канали) мокраће у бубрежном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истем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је резултат три бубрежна проце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1. филтрација (гломер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2. реапсорп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3. секре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6920" y="6019920"/>
            <a:ext cx="90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Уринарна е</a:t>
            </a:r>
            <a:r>
              <a:rPr b="0" lang="sr-Latn-CS" sz="2600" spc="-1" strike="noStrike">
                <a:solidFill>
                  <a:srgbClr val="ffff00"/>
                </a:solidFill>
                <a:latin typeface="Times New Roman"/>
              </a:rPr>
              <a:t>кскрециј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= филтрација – реапсорпција + секре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105080" cy="465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ОСНОВНЕ КОМПОНЕНТЕ БУБРЕЖНЕ ФУН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133720" y="380520"/>
            <a:ext cx="48765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Функционална грађа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гломерулске мемб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1219320"/>
            <a:ext cx="4038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ломерулска капиларна мембрана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је слична мембрани осталих капилара с тим шт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ма три слој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ндотел капилар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фенестриран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б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залну мембрану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састављена од мреже колагена и протеогликанских филамената који с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наелектриса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лој епителних ћелиј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имају процепе тзв. пукотинасте поре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су наелектрисан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slika 37-02"/>
          <p:cNvPicPr/>
          <p:nvPr/>
        </p:nvPicPr>
        <p:blipFill>
          <a:blip r:embed="rId1"/>
          <a:stretch/>
        </p:blipFill>
        <p:spPr>
          <a:xfrm>
            <a:off x="4419720" y="1295280"/>
            <a:ext cx="4398840" cy="4089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038480" y="5638680"/>
            <a:ext cx="5105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Слика: 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Структу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гломерула.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Пресек кроз васкуларни пол који показује капиларну петљу. 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Однос мезангијалних ћелија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 подоцита гломерулских капилара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етаљ како подоцити образују прорезе на базалној ламини, и однос између ламине и ендотела капилара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већање правоугаоника уцртаног на слици В да би се приказали израштаји подоцита. Нејасан материјал на њиховим </a:t>
            </a: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површинама представља гломерулске полианј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7:57:18Z</dcterms:created>
  <dc:creator>PC HOME</dc:creator>
  <dc:description/>
  <dc:language>en-US</dc:language>
  <cp:lastModifiedBy>SP</cp:lastModifiedBy>
  <dcterms:modified xsi:type="dcterms:W3CDTF">2019-10-29T12:46:24Z</dcterms:modified>
  <cp:revision>53</cp:revision>
  <dc:subject/>
  <dc:title>Slide 1</dc:title>
</cp:coreProperties>
</file>